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5FFF-F25B-420C-A747-5BBCE785AD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B18D-037A-4DFD-9EEF-0C9E6508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2C08-FDB6-4100-87BA-7CF3EBC3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0D54-6C12-499A-88F3-74BDBCAFCA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CC7E-2293-4E97-8AD0-A9D1910E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DCA3-F88C-48FC-A0A0-B1E8B55B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057E-9E57-4EDE-B30F-22D9C60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0EC7-A37A-47DE-B410-5604A047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2359-BF30-48BD-8F8B-B8959E7E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B110-8567-43C2-85CD-C254EAA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EBE8-AD6A-4DB3-9930-98CDF3C4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1EAC4-14ED-442B-90DF-8307A291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24760" y="5595840"/>
            <a:ext cx="2151000" cy="152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8B64C-C020-4C83-BB39-B0C64187B655}" type="datetime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025D3-365A-4FD5-8ECA-FDD9E06FE356}" type="slidenum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89000"/>
          </a:bodyPr>
          <a:p>
            <a:pPr marL="3052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1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2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3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4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5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6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4520" y="809640"/>
            <a:ext cx="8046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What are Community Sh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Withdrawable shar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raditional (but forgotten) form for building co-operative and community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809640"/>
            <a:ext cx="6400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The Community Shares Re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need (and a business p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ability – leg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crowd (and a plan to hook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55560" y="809640"/>
            <a:ext cx="80265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Futura LT Book"/>
              </a:rPr>
              <a:t>Why they work for enterpris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Unregulated by F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heap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ment puts power in hands of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 to create the world you want to l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‘</a:t>
            </a: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tentially Repayable Philanthrop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ax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Get 5-10 times what donations br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Some share issu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Sheffield TV – £16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 </a:t>
            </a: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sitive News – £263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Ethical Consumer – £20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FC United of Manchester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rtsmouth FC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Highwinds - £3.7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34680" y="809640"/>
            <a:ext cx="79945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Why they might work for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strong global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eople cheris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large global support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Non-consumption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How much could you ra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: 1525 investors from 33 countries, around 20% of subscrib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Average £172 (though 20% were offline, and offline average was £4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f NI had similar strike rate and average, sum of around £1 at lower end, £4M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Posi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Selling ownership really has a value, especially to people who cheris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The values behind a Community Share issue are the same values you have always been an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Neg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3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Current situation in which staff are in control woul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Tageszeitung-style worker co-op jam in community-owned dou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pure multi-stakeholder co-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 Charter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20:33:39Z</dcterms:created>
  <dc:creator>Dave</dc:creator>
  <dc:description/>
  <dc:language>en-US</dc:language>
  <cp:lastModifiedBy>Dave</cp:lastModifiedBy>
  <dcterms:modified xsi:type="dcterms:W3CDTF">2015-07-16T06:48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On-screen Show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8</vt:r8>
  </property>
</Properties>
</file>